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5D5-13F0-4288-807D-F0964C79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7E0-D523-498F-BEC0-CA182A17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183-6221-49ED-9B61-F6D61EE4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831-B9D3-45D2-81D8-1BF6B74E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108A-4A22-4449-AA1A-58F2CDBB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AABE-24D6-4C2A-B0C1-65D8130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52DE-D213-41AA-80B2-FEBAC158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D77-D704-40CD-BBCC-9EFBB15A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CEB4-7746-4D2E-95D8-6D85A5E9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255-D6AF-49E3-B2CD-ED1ABA72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B585-C117-4986-9AAA-F6A9C51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D89-7A20-4132-94E7-CDC7948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876-9986-4B86-8488-14F15A4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0296-3C12-4789-8590-06C87D8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6D5-8D5D-4750-86E8-9168E44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937-E20B-446D-928D-925F0A5A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547A-E9FA-4CA7-A0A3-526E8E3F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37C-C43D-4F53-A90F-D446A94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73D-61FC-4AEF-8074-CC72C78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D56-B0E3-49C5-A105-F1631C5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934-2226-4129-88D9-8C571348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990-A7BC-456E-89BE-6351627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149-E7D2-4161-AE70-918B7EA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6AC-8F6E-4083-8F3A-E875D73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B4B-93F7-4D9C-B98A-657732C3F63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406-D060-4FBE-8A1D-F615E428711B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ELOKĄ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7000" y="2394000"/>
          <a:ext cx="75168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2394000"/>
                    <a:ext cx="75168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1449360"/>
          <a:ext cx="651816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49360"/>
                    <a:ext cx="6518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2960" y="1233360"/>
          <a:ext cx="673740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233360"/>
                    <a:ext cx="67374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66240" y="4365000"/>
            <a:ext cx="60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daj odcinki z jakich zbudowana jest figura I; III i 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300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cin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 jakich zbudowana jest figura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okami 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spólne punk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dcinków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wierzchołka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59156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azwa wielokąta zależy od liczby jego kątów wewnętr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2673360"/>
          <a:ext cx="79214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73360"/>
                    <a:ext cx="79214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0200" y="123300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. Oznacz wierzchołki, zaznacz kąty i podaj nazwę fig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174" descr=""/>
          <p:cNvPicPr/>
          <p:nvPr/>
        </p:nvPicPr>
        <p:blipFill>
          <a:blip r:embed="rId1"/>
          <a:stretch/>
        </p:blipFill>
        <p:spPr>
          <a:xfrm>
            <a:off x="2411280" y="2241720"/>
            <a:ext cx="44658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123300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. Które z figur przedstawionych na rysunku nie są wielokątami i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82" descr=""/>
          <p:cNvPicPr/>
          <p:nvPr/>
        </p:nvPicPr>
        <p:blipFill>
          <a:blip r:embed="rId1"/>
          <a:stretch/>
        </p:blipFill>
        <p:spPr>
          <a:xfrm>
            <a:off x="1511280" y="2421000"/>
            <a:ext cx="6516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1689120"/>
            <a:ext cx="8492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Wielokąty to figury geometryczne, które maj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kąt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wierzchołk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bok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3:39Z</dcterms:modified>
  <cp:revision>23</cp:revision>
  <dc:subject/>
  <dc:title>Slajd 1</dc:title>
</cp:coreProperties>
</file>